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B7C-8B7E-437A-BD22-F5A36227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AB8-6DCB-4E57-9706-E5B7C19D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4FD-373E-438E-B536-359F0677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D1B-322C-440B-9357-4090EA49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D3D-377A-4284-A7CF-D098DF40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E18-4806-467A-9E42-2F161824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DAD-BEA4-4D79-8A1B-291C1F9F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785-2988-4C24-BEC0-2DE1DC51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684-696E-4BFF-91DA-7FCF35C9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CEC-16C2-490B-BB22-33BCD45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6C5-D3BD-4756-8F20-CAC2E28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143-1F40-446B-AA9E-E24EA6C7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158C-D307-49D4-B8D9-01B3046829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4919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24098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"/>
          <p:cNvPicPr/>
          <p:nvPr/>
        </p:nvPicPr>
        <p:blipFill>
          <a:blip r:embed="rId1"/>
          <a:stretch/>
        </p:blipFill>
        <p:spPr>
          <a:xfrm>
            <a:off x="6207120" y="1986120"/>
            <a:ext cx="2409840" cy="22287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2"/>
          <a:stretch/>
        </p:blipFill>
        <p:spPr>
          <a:xfrm>
            <a:off x="914400" y="28717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4" descr=""/>
          <p:cNvPicPr/>
          <p:nvPr/>
        </p:nvPicPr>
        <p:blipFill>
          <a:blip r:embed="rId5"/>
          <a:stretch/>
        </p:blipFill>
        <p:spPr>
          <a:xfrm>
            <a:off x="6199200" y="5065560"/>
            <a:ext cx="231624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920880" y="489600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335240" y="43527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8"/>
          <a:stretch/>
        </p:blipFill>
        <p:spPr>
          <a:xfrm>
            <a:off x="914400" y="38955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9"/>
          <a:stretch/>
        </p:blipFill>
        <p:spPr>
          <a:xfrm>
            <a:off x="1146240" y="332892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0"/>
          <a:stretch/>
        </p:blipFill>
        <p:spPr>
          <a:xfrm>
            <a:off x="969840" y="2114640"/>
            <a:ext cx="82296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6332400" y="2897280"/>
            <a:ext cx="2409840" cy="2228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890640" y="3432240"/>
            <a:ext cx="805176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341280" y="2146320"/>
            <a:ext cx="8193240" cy="12621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933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6516720" y="5202360"/>
            <a:ext cx="2016000" cy="97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2e6c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6cb8"/>
                </a:solidFill>
                <a:latin typeface="Calibri"/>
              </a:rPr>
              <a:t>Substitute values from part </a:t>
            </a:r>
            <a:r>
              <a:rPr b="1" lang="en-GB" sz="2000" spc="-1" strike="noStrike">
                <a:solidFill>
                  <a:srgbClr val="2e6cb8"/>
                </a:solidFill>
                <a:latin typeface="Calibri"/>
              </a:rPr>
              <a:t>a</a:t>
            </a:r>
            <a:r>
              <a:rPr b="0" lang="en-GB" sz="2000" spc="-1" strike="noStrike">
                <a:solidFill>
                  <a:srgbClr val="2e6cb8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2" descr=""/>
          <p:cNvPicPr/>
          <p:nvPr/>
        </p:nvPicPr>
        <p:blipFill>
          <a:blip r:embed="rId5"/>
          <a:stretch/>
        </p:blipFill>
        <p:spPr>
          <a:xfrm>
            <a:off x="1212840" y="5681520"/>
            <a:ext cx="805356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1901880" y="5241960"/>
            <a:ext cx="4870440" cy="4636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1225440" y="4797360"/>
            <a:ext cx="80517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1920960" y="4267080"/>
            <a:ext cx="8058240" cy="4636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9"/>
          <a:stretch/>
        </p:blipFill>
        <p:spPr>
          <a:xfrm>
            <a:off x="1231920" y="3852720"/>
            <a:ext cx="8058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26:44Z</dcterms:created>
  <dc:creator/>
  <dc:description/>
  <dc:language>en-US</dc:language>
  <cp:lastModifiedBy/>
  <dcterms:modified xsi:type="dcterms:W3CDTF">2011-12-08T11:26:51Z</dcterms:modified>
  <cp:revision>1</cp:revision>
  <dc:subject/>
  <dc:title/>
</cp:coreProperties>
</file>