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780-C982-4910-9A34-D39FBB90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B58-FF45-4D5B-9B27-345025C5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7EA-D589-488C-9590-51494D03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4D3-CBAF-4FF8-87D7-A9C5FC3E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B5B-376F-4F29-9C2B-A41A6609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C6C-5429-46A0-ABE4-0F867877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6F7-8149-4D39-8BA2-8889B6A7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FCC-7C76-4A92-83EA-8FCBBF2C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6F8-EE60-486E-AF19-5637C87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5DB-6951-483F-AF9E-FBC4E27C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7A8-5444-4CD5-BF40-7E155342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37E-DD93-49A7-899E-26CB21AA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0F2D-2624-454B-B6BC-0152F0B799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85256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8604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3"/>
          <a:stretch/>
        </p:blipFill>
        <p:spPr>
          <a:xfrm>
            <a:off x="1420920" y="2457360"/>
            <a:ext cx="3011400" cy="68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5724360" y="2097000"/>
            <a:ext cx="2808360" cy="19083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2614680" y="5761080"/>
            <a:ext cx="6132600" cy="6206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1328760" y="5224320"/>
            <a:ext cx="720576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1311120" y="4359240"/>
            <a:ext cx="7077240" cy="82872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1298520" y="385272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9"/>
          <a:stretch/>
        </p:blipFill>
        <p:spPr>
          <a:xfrm>
            <a:off x="1322280" y="341316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1"/>
          <a:stretch/>
        </p:blipFill>
        <p:spPr>
          <a:xfrm>
            <a:off x="500040" y="4809960"/>
            <a:ext cx="8053560" cy="7686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341280" y="2073240"/>
            <a:ext cx="8193240" cy="889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6148440" y="4581360"/>
            <a:ext cx="2392200" cy="17272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517680" y="5956200"/>
            <a:ext cx="8059680" cy="40176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523800" y="5529240"/>
            <a:ext cx="8059680" cy="3952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2395440" y="4254480"/>
            <a:ext cx="4230720" cy="4032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2382840" y="3773520"/>
            <a:ext cx="590724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500040" y="3371760"/>
            <a:ext cx="8058240" cy="40176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500040" y="3029040"/>
            <a:ext cx="8053560" cy="403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4" descr=""/>
          <p:cNvPicPr/>
          <p:nvPr/>
        </p:nvPicPr>
        <p:blipFill>
          <a:blip r:embed="rId10"/>
          <a:stretch/>
        </p:blipFill>
        <p:spPr>
          <a:xfrm>
            <a:off x="682560" y="1054080"/>
            <a:ext cx="78519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2:00:43Z</dcterms:created>
  <dc:creator/>
  <dc:description/>
  <dc:language>en-US</dc:language>
  <cp:lastModifiedBy/>
  <dcterms:modified xsi:type="dcterms:W3CDTF">2011-12-08T12:03:57Z</dcterms:modified>
  <cp:revision>1</cp:revision>
  <dc:subject/>
  <dc:title/>
</cp:coreProperties>
</file>