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BC8-3D7D-4525-B935-4CB8CF73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8E6-48A1-472E-BE9D-3C0BEE24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6F9-FBBA-4B63-B26B-0DE11032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B89-EBEC-4F00-B7A3-72012BCD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AA1-0355-4AF0-B10D-A854BD50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FCC-F3B7-4B3B-A5E8-1E575E50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5E2-3859-4F7E-BBC7-21E9C4E7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CFE-7459-4947-AC43-657C1037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1B4-A185-4738-A2D9-D90AC147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E51-43CA-4FFF-9E1D-A8E4C6B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BC7-E0D4-4BEC-8DBE-3EC5318C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B7B-673D-4326-99B4-70F6E1C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388-130A-41EF-B83F-22673F75BA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40957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219480" y="5241960"/>
            <a:ext cx="361944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1384200" y="1916280"/>
            <a:ext cx="4095720" cy="8762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2419200" y="4730760"/>
            <a:ext cx="612144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2766960" y="4048200"/>
            <a:ext cx="4681440" cy="6206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352520" y="3425760"/>
            <a:ext cx="6462720" cy="6224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322280" y="29811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8"/>
          <a:stretch/>
        </p:blipFill>
        <p:spPr>
          <a:xfrm>
            <a:off x="463680" y="1768320"/>
            <a:ext cx="8650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1409760" y="2349360"/>
            <a:ext cx="2944800" cy="21592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407960" y="4724280"/>
            <a:ext cx="1511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1"/>
          <a:stretch/>
        </p:blipFill>
        <p:spPr>
          <a:xfrm>
            <a:off x="341280" y="2792520"/>
            <a:ext cx="83646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6462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3"/>
          <a:stretch/>
        </p:blipFill>
        <p:spPr>
          <a:xfrm>
            <a:off x="682560" y="3718080"/>
            <a:ext cx="8229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193240" cy="16891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506520" y="3322800"/>
            <a:ext cx="8057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4:30Z</dcterms:created>
  <dc:creator/>
  <dc:description/>
  <dc:language>en-US</dc:language>
  <cp:lastModifiedBy/>
  <dcterms:modified xsi:type="dcterms:W3CDTF">2011-12-08T11:54:35Z</dcterms:modified>
  <cp:revision>1</cp:revision>
  <dc:subject/>
  <dc:title/>
</cp:coreProperties>
</file>