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E63-C4D9-49FC-B316-357C1FD5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065-70A8-4CB5-BA4E-0FDBD79B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5DC-A9F9-4E07-8DE2-F83982B7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AC1-ABC7-4CE1-8825-102E672C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6C9-5893-4CAB-A81B-8C5C92AB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1C7-7CFE-4D74-B2B0-55688C8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8D9-D4EC-4B5F-AC00-23F0B055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524-399D-42E7-BE4D-D7F2C35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740-DAEA-41C7-80B2-D795864B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A25-B823-474A-925A-E61B31AD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333-DBB4-4CC2-813A-84906CE5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AE1-56DD-4EE9-826E-5F8E808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763C-4189-4432-BDB7-C8C5C8DCD4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46080" y="2349360"/>
            <a:ext cx="71406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749160" y="2998800"/>
            <a:ext cx="4316400" cy="963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697120" cy="21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928800" y="2133720"/>
            <a:ext cx="5832360" cy="6458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328760" y="4029120"/>
            <a:ext cx="181116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884160" y="4621320"/>
            <a:ext cx="44690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353880" y="3975120"/>
            <a:ext cx="836316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3"/>
          <a:stretch/>
        </p:blipFill>
        <p:spPr>
          <a:xfrm>
            <a:off x="6151680" y="4071960"/>
            <a:ext cx="2388960" cy="6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024600" y="4799160"/>
            <a:ext cx="2536920" cy="162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928800" y="2867040"/>
            <a:ext cx="58323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6"/>
          <a:stretch/>
        </p:blipFill>
        <p:spPr>
          <a:xfrm>
            <a:off x="1316160" y="51386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7"/>
          <a:stretch/>
        </p:blipFill>
        <p:spPr>
          <a:xfrm>
            <a:off x="871560" y="46641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8"/>
          <a:stretch/>
        </p:blipFill>
        <p:spPr>
          <a:xfrm>
            <a:off x="506520" y="360216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1:26Z</dcterms:created>
  <dc:creator/>
  <dc:description/>
  <dc:language>en-US</dc:language>
  <cp:lastModifiedBy/>
  <dcterms:modified xsi:type="dcterms:W3CDTF">2015-06-12T12:44:57Z</dcterms:modified>
  <cp:revision>1</cp:revision>
  <dc:subject/>
  <dc:title/>
</cp:coreProperties>
</file>