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33C-BCD4-4019-B334-6B71BE19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16C-DD31-442F-96C1-CE4A7320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B5D-2673-4AB4-81DC-D5C99BB6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C11-0439-4F56-957B-22C386E5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827-4ED0-4799-A5BC-6F41343B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1DF-993C-48BC-B5E7-05922CEC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569-B55B-460E-874E-FC293057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21F-6505-4B1D-AD06-A7ED76EC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D90-DA6C-4045-808B-2D5E2239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8B5-4444-48AA-B9BE-A9926027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883-05DA-488C-B440-7F1ABA9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EF6-442A-4F68-AF91-C0820C2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F57C-E567-4FC0-A91F-3809978F73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628560" y="2225520"/>
            <a:ext cx="8229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2" descr=""/>
          <p:cNvPicPr/>
          <p:nvPr/>
        </p:nvPicPr>
        <p:blipFill>
          <a:blip r:embed="rId1"/>
          <a:stretch/>
        </p:blipFill>
        <p:spPr>
          <a:xfrm>
            <a:off x="500040" y="4334040"/>
            <a:ext cx="805824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2"/>
          <a:stretch/>
        </p:blipFill>
        <p:spPr>
          <a:xfrm>
            <a:off x="487440" y="3462480"/>
            <a:ext cx="8053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3"/>
          <a:stretch/>
        </p:blipFill>
        <p:spPr>
          <a:xfrm>
            <a:off x="341280" y="17859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7" descr=""/>
          <p:cNvPicPr/>
          <p:nvPr/>
        </p:nvPicPr>
        <p:blipFill>
          <a:blip r:embed="rId5"/>
          <a:stretch/>
        </p:blipFill>
        <p:spPr>
          <a:xfrm>
            <a:off x="5194440" y="1981080"/>
            <a:ext cx="3327120" cy="731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5211720" y="3573360"/>
            <a:ext cx="33130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2e6c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Don’t forget that the second part of the expression also adds a factor of </a:t>
            </a:r>
            <a:r>
              <a:rPr b="0" i="1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x</a:t>
            </a:r>
            <a:r>
              <a:rPr b="0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506520" y="5327640"/>
            <a:ext cx="805788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500040" y="4816440"/>
            <a:ext cx="805356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1352520" y="3902040"/>
            <a:ext cx="8053560" cy="461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506520" y="3108240"/>
            <a:ext cx="805176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480960" y="2262240"/>
            <a:ext cx="8059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37:27Z</dcterms:created>
  <dc:creator/>
  <dc:description/>
  <dc:language>en-US</dc:language>
  <cp:lastModifiedBy/>
  <dcterms:modified xsi:type="dcterms:W3CDTF">2011-12-08T11:37:33Z</dcterms:modified>
  <cp:revision>1</cp:revision>
  <dc:subject/>
  <dc:title/>
</cp:coreProperties>
</file>