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D70-555C-4F9E-A49F-B4DA904A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1BE-467B-4307-8E2C-23D62E9F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5E6-6C22-4D09-8E9C-82D82989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F20-BAD0-4F94-B37E-7CA63319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F63-F37C-4E00-9F5A-31BAB438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2A5-B7DD-4A7C-AC68-AC9B3C55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64F-24E7-4453-B695-3659CE0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29A-DC06-4D33-B345-41803BB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A60-DD77-445E-9712-BA1F3ED7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373-C136-4B02-AA22-501213DC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B28-CF6F-47FB-A2AE-004DCBD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7AB-19E9-4952-BF3C-56D2103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5247-63F3-4D88-A89C-E367A7FF3C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675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435640" y="1089000"/>
            <a:ext cx="28814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7772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341280" y="2359080"/>
            <a:ext cx="8364600" cy="890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9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2979720" cy="273672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5"/>
          <p:cNvCxnSpPr/>
          <p:nvPr/>
        </p:nvCxnSpPr>
        <p:spPr>
          <a:xfrm>
            <a:off x="5689080" y="2781360"/>
            <a:ext cx="1080" cy="201672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>
            <a:off x="7740360" y="3715920"/>
            <a:ext cx="1080" cy="108180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920880" y="3371760"/>
            <a:ext cx="4224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27496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72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2835360" cy="260496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5"/>
          <p:cNvCxnSpPr/>
          <p:nvPr/>
        </p:nvCxnSpPr>
        <p:spPr>
          <a:xfrm>
            <a:off x="6075360" y="4140000"/>
            <a:ext cx="2674080" cy="1080"/>
          </a:xfrm>
          <a:prstGeom prst="straightConnector1">
            <a:avLst/>
          </a:prstGeom>
          <a:ln w="15840">
            <a:solidFill>
              <a:srgbClr val="2e6cb8"/>
            </a:solidFill>
            <a:prstDash val="dash"/>
            <a:miter/>
            <a:headEnd len="med" type="oval" w="med"/>
            <a:tailEnd len="med" type="oval" w="med"/>
          </a:ln>
        </p:spPr>
      </p:cxnSp>
      <p:cxnSp>
        <p:nvCxnSpPr>
          <p:cNvPr id="56" name="Straight Arrow Connector 8"/>
          <p:cNvCxnSpPr/>
          <p:nvPr/>
        </p:nvCxnSpPr>
        <p:spPr>
          <a:xfrm>
            <a:off x="6227280" y="3284640"/>
            <a:ext cx="1080" cy="1692720"/>
          </a:xfrm>
          <a:prstGeom prst="straightConnector1">
            <a:avLst/>
          </a:prstGeom>
          <a:ln w="15840">
            <a:solidFill>
              <a:srgbClr val="2e6cb8"/>
            </a:solidFill>
            <a:prstDash val="dash"/>
            <a:miter/>
            <a:headEnd len="med" type="oval" w="med"/>
            <a:tailEnd len="med" type="oval" w="med"/>
          </a:ln>
        </p:spPr>
      </p:cxnSp>
      <p:cxnSp>
        <p:nvCxnSpPr>
          <p:cNvPr id="57" name="Straight Arrow Connector 13"/>
          <p:cNvCxnSpPr/>
          <p:nvPr/>
        </p:nvCxnSpPr>
        <p:spPr>
          <a:xfrm>
            <a:off x="7524360" y="4140360"/>
            <a:ext cx="1080" cy="846720"/>
          </a:xfrm>
          <a:prstGeom prst="straightConnector1">
            <a:avLst/>
          </a:prstGeom>
          <a:ln w="15840">
            <a:solidFill>
              <a:srgbClr val="2c763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Straight Arrow Connector 15"/>
          <p:cNvCxnSpPr/>
          <p:nvPr/>
        </p:nvCxnSpPr>
        <p:spPr>
          <a:xfrm flipH="1">
            <a:off x="6011280" y="3284280"/>
            <a:ext cx="216360" cy="1080"/>
          </a:xfrm>
          <a:prstGeom prst="straightConnector1">
            <a:avLst/>
          </a:prstGeom>
          <a:ln w="1584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Straight Arrow Connector 18"/>
          <p:cNvCxnSpPr/>
          <p:nvPr/>
        </p:nvCxnSpPr>
        <p:spPr>
          <a:xfrm>
            <a:off x="6516360" y="4140000"/>
            <a:ext cx="1080" cy="1043640"/>
          </a:xfrm>
          <a:prstGeom prst="straightConnector1">
            <a:avLst/>
          </a:prstGeom>
          <a:ln w="15840">
            <a:solidFill>
              <a:srgbClr val="59595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0" name="Straight Arrow Connector 20"/>
          <p:cNvCxnSpPr/>
          <p:nvPr/>
        </p:nvCxnSpPr>
        <p:spPr>
          <a:xfrm flipH="1">
            <a:off x="6012000" y="4005000"/>
            <a:ext cx="273708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1" name="Content Placeholder 2" descr=""/>
          <p:cNvPicPr/>
          <p:nvPr/>
        </p:nvPicPr>
        <p:blipFill>
          <a:blip r:embed="rId4"/>
          <a:stretch/>
        </p:blipFill>
        <p:spPr>
          <a:xfrm>
            <a:off x="907920" y="5357880"/>
            <a:ext cx="8053560" cy="7509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871560" y="4846680"/>
            <a:ext cx="805968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884160" y="4400640"/>
            <a:ext cx="8051760" cy="4633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890640" y="3902040"/>
            <a:ext cx="8058240" cy="461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8"/>
          <a:stretch/>
        </p:blipFill>
        <p:spPr>
          <a:xfrm>
            <a:off x="1139760" y="3255840"/>
            <a:ext cx="80535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341280" y="2432160"/>
            <a:ext cx="8193240" cy="8046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3651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3"/>
          <a:stretch/>
        </p:blipFill>
        <p:spPr>
          <a:xfrm>
            <a:off x="2432160" y="4968720"/>
            <a:ext cx="5449680" cy="5842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1652760" y="4280040"/>
            <a:ext cx="8057880" cy="7426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890640" y="3681360"/>
            <a:ext cx="8058240" cy="7444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933480" y="3219480"/>
            <a:ext cx="80582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2" descr=""/>
          <p:cNvPicPr/>
          <p:nvPr/>
        </p:nvPicPr>
        <p:blipFill>
          <a:blip r:embed="rId1"/>
          <a:stretch/>
        </p:blipFill>
        <p:spPr>
          <a:xfrm>
            <a:off x="542880" y="2359080"/>
            <a:ext cx="8051760" cy="9810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2"/>
          <a:stretch/>
        </p:blipFill>
        <p:spPr>
          <a:xfrm>
            <a:off x="341280" y="113364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5481720" y="1335240"/>
            <a:ext cx="2835360" cy="260352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6"/>
          <p:cNvCxnSpPr/>
          <p:nvPr/>
        </p:nvCxnSpPr>
        <p:spPr>
          <a:xfrm>
            <a:off x="5651280" y="2636640"/>
            <a:ext cx="2161080" cy="108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5492880" y="3938760"/>
            <a:ext cx="2895480" cy="244764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5"/>
          <a:stretch/>
        </p:blipFill>
        <p:spPr>
          <a:xfrm>
            <a:off x="878040" y="1847880"/>
            <a:ext cx="8057880" cy="61416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6"/>
          <a:stretch/>
        </p:blipFill>
        <p:spPr>
          <a:xfrm>
            <a:off x="517680" y="3919680"/>
            <a:ext cx="8059680" cy="83484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7"/>
          <a:stretch/>
        </p:blipFill>
        <p:spPr>
          <a:xfrm>
            <a:off x="566640" y="5010120"/>
            <a:ext cx="80535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4:19Z</dcterms:created>
  <dc:creator/>
  <dc:description/>
  <dc:language>en-US</dc:language>
  <cp:lastModifiedBy/>
  <dcterms:modified xsi:type="dcterms:W3CDTF">2011-12-08T12:06:47Z</dcterms:modified>
  <cp:revision>1</cp:revision>
  <dc:subject/>
  <dc:title/>
</cp:coreProperties>
</file>