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702-71A4-4974-9D4C-1F255780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32C-1C4B-4E41-983B-C92C6FE5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728-7CFF-4D47-AA24-2B146099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850-374D-4D2B-B1C3-515D9225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008-42E7-4239-968C-F939D779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5CC-0745-456B-A1E4-A664DA7D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72C-3535-4682-A2F5-BEDC700C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671-6DED-40A2-8DDA-5CDBDE2B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129-32C9-47E9-B5B3-43AAD776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619-A9FE-46E6-B080-71C1DE46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CD1-36F1-450E-BF8E-A59CB1BB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333-FB35-422E-861A-281C381B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1A4B-0AC8-4479-88A8-65B41ABF25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24000" y="171288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1158840" y="2494080"/>
            <a:ext cx="8229600" cy="6458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066680" y="3103560"/>
            <a:ext cx="8229600" cy="6508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987480" y="3754440"/>
            <a:ext cx="822960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20880" y="4443480"/>
            <a:ext cx="82296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"/>
          <p:cNvPicPr/>
          <p:nvPr/>
        </p:nvPicPr>
        <p:blipFill>
          <a:blip r:embed="rId1"/>
          <a:stretch/>
        </p:blipFill>
        <p:spPr>
          <a:xfrm>
            <a:off x="933480" y="5370480"/>
            <a:ext cx="8051760" cy="3970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901800" y="5035680"/>
            <a:ext cx="8059680" cy="4014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3"/>
          <a:stretch/>
        </p:blipFill>
        <p:spPr>
          <a:xfrm>
            <a:off x="341280" y="1785960"/>
            <a:ext cx="8193240" cy="8906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907920" y="4614840"/>
            <a:ext cx="8060040" cy="4636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920880" y="2951280"/>
            <a:ext cx="8057880" cy="4014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7"/>
          <a:stretch/>
        </p:blipFill>
        <p:spPr>
          <a:xfrm>
            <a:off x="920880" y="4224240"/>
            <a:ext cx="805176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8"/>
          <a:stretch/>
        </p:blipFill>
        <p:spPr>
          <a:xfrm>
            <a:off x="890640" y="2646360"/>
            <a:ext cx="8051760" cy="40176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7" descr=""/>
          <p:cNvPicPr/>
          <p:nvPr/>
        </p:nvPicPr>
        <p:blipFill>
          <a:blip r:embed="rId9"/>
          <a:stretch/>
        </p:blipFill>
        <p:spPr>
          <a:xfrm>
            <a:off x="6224760" y="1841400"/>
            <a:ext cx="2315880" cy="252900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5" descr=""/>
          <p:cNvPicPr/>
          <p:nvPr/>
        </p:nvPicPr>
        <p:blipFill>
          <a:blip r:embed="rId10"/>
          <a:stretch/>
        </p:blipFill>
        <p:spPr>
          <a:xfrm>
            <a:off x="6066000" y="4889520"/>
            <a:ext cx="246204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1"/>
          <a:stretch/>
        </p:blipFill>
        <p:spPr>
          <a:xfrm>
            <a:off x="743040" y="3413160"/>
            <a:ext cx="819288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2"/>
          <a:stretch/>
        </p:blipFill>
        <p:spPr>
          <a:xfrm>
            <a:off x="878040" y="5827680"/>
            <a:ext cx="805788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32:10Z</dcterms:created>
  <dc:creator/>
  <dc:description/>
  <dc:language>en-US</dc:language>
  <cp:lastModifiedBy/>
  <dcterms:modified xsi:type="dcterms:W3CDTF">2011-12-08T11:32:18Z</dcterms:modified>
  <cp:revision>1</cp:revision>
  <dc:subject/>
  <dc:title/>
</cp:coreProperties>
</file>