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1FC6-14BB-4184-8FF6-25826556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584-7966-42CB-BFFA-E6D6014D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E22-3F75-44B9-B272-57C39044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231-1C52-4010-8D7F-801BF18E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D730-0172-41EC-9ECE-A22C2310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D1B0-2F63-43B5-AF7A-455894E8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108-64BA-479F-8860-6727BA15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35E-A104-4626-B072-5A992DF0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CD7-85A0-481F-8DFE-61264C24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00B8-0C1E-49F4-AFF9-C3853200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E04-C67A-4A2A-84F7-25A534C3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D02-5077-490E-A8DE-82662005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6903-6AA6-4E8C-9F5E-099FC01376D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34800" y="1670040"/>
            <a:ext cx="837108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3"/>
          <a:stretch/>
        </p:blipFill>
        <p:spPr>
          <a:xfrm>
            <a:off x="884160" y="5516640"/>
            <a:ext cx="7216920" cy="6159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871560" y="4797360"/>
            <a:ext cx="7418520" cy="61596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878040" y="430992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1176480" y="3541680"/>
            <a:ext cx="6924600" cy="61596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914400" y="2925720"/>
            <a:ext cx="8229600" cy="61596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969840" y="2219400"/>
            <a:ext cx="82296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2" descr=""/>
          <p:cNvPicPr/>
          <p:nvPr/>
        </p:nvPicPr>
        <p:blipFill>
          <a:blip r:embed="rId1"/>
          <a:stretch/>
        </p:blipFill>
        <p:spPr>
          <a:xfrm>
            <a:off x="341280" y="120636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2"/>
          <a:stretch/>
        </p:blipFill>
        <p:spPr>
          <a:xfrm>
            <a:off x="469800" y="1773360"/>
            <a:ext cx="82296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59:44Z</dcterms:created>
  <dc:creator/>
  <dc:description/>
  <dc:language>en-US</dc:language>
  <cp:lastModifiedBy/>
  <dcterms:modified xsi:type="dcterms:W3CDTF">2011-12-08T11:59:48Z</dcterms:modified>
  <cp:revision>1</cp:revision>
  <dc:subject/>
  <dc:title/>
</cp:coreProperties>
</file>