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CD7-60CF-49DE-99FF-202D3BE1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ED6-0E83-46D0-8D3A-BBBA494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7D3-13BB-4330-8B13-D9EC638E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1B6-C619-4020-92DA-BBDBE776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611-A7A5-4499-8BA3-E2628579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ED9-00B7-4169-8D3C-6CBDB394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B32-2934-44D8-BA5D-45E3D211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689-5CC9-436E-95BF-9BC7E0E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D9D-26D0-48BB-BB19-5247405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CA5-910D-44DC-BE65-757CE71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DA3-BB07-4A85-9197-9F73EF3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093-B45B-4903-957B-0FAF27C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720-75D6-4626-BF7F-E2FFDA65E3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065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1170000" y="57056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948360" y="2160720"/>
            <a:ext cx="184788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3206880" y="5505480"/>
            <a:ext cx="2608200" cy="7794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066680" y="53103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901800" y="49132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1163520" y="435276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82600" y="3876840"/>
            <a:ext cx="8229600" cy="7315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1176480" y="35654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3176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12"/>
          <a:stretch/>
        </p:blipFill>
        <p:spPr>
          <a:xfrm>
            <a:off x="1182600" y="2766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3"/>
          <a:stretch/>
        </p:blipFill>
        <p:spPr>
          <a:xfrm>
            <a:off x="890640" y="239544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341280" y="3438360"/>
            <a:ext cx="8193240" cy="798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1182600" y="5924520"/>
            <a:ext cx="8053560" cy="6523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1200240" y="5510160"/>
            <a:ext cx="8053200" cy="5666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206360" y="5132520"/>
            <a:ext cx="8060040" cy="5061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1195560" y="4784760"/>
            <a:ext cx="8051760" cy="5731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5320" y="4400640"/>
            <a:ext cx="80596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200240" y="3906720"/>
            <a:ext cx="80532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3:53Z</dcterms:created>
  <dc:creator/>
  <dc:description/>
  <dc:language>en-US</dc:language>
  <cp:lastModifiedBy/>
  <dcterms:modified xsi:type="dcterms:W3CDTF">2011-12-08T11:44:36Z</dcterms:modified>
  <cp:revision>1</cp:revision>
  <dc:subject/>
  <dc:title/>
</cp:coreProperties>
</file>