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6E6-144A-459F-995D-98CDD009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943-3775-4C53-9046-44CD4AF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5D3-6E18-4C83-89FE-CFE7FD0C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B76-0A9C-4675-84A9-88D3A41E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A32-FE8C-497C-8FEC-523E9C59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974-1824-459D-B8B9-D1CB64A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679-2337-4082-A78A-6362666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C56-A75B-43F8-8F2B-F3AA896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751-395F-44B6-A39E-AC9EDB73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741-345F-4D91-B176-B50CDB7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35F-00C5-4D00-837C-9D7F151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8A1-E01E-41DB-B73A-D79BA9C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6B11-B4F5-4040-AD5A-3109CD299B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2462040"/>
            <a:ext cx="31035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9" descr=""/>
          <p:cNvPicPr/>
          <p:nvPr/>
        </p:nvPicPr>
        <p:blipFill>
          <a:blip r:embed="rId3"/>
          <a:stretch/>
        </p:blipFill>
        <p:spPr>
          <a:xfrm>
            <a:off x="1395360" y="2560680"/>
            <a:ext cx="31100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1566720" y="4724280"/>
            <a:ext cx="8064720" cy="12798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901800" y="3797280"/>
            <a:ext cx="8229600" cy="105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3276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1182600" y="4668840"/>
            <a:ext cx="8058240" cy="4698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347760" y="1852560"/>
            <a:ext cx="81928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1" descr=""/>
          <p:cNvPicPr/>
          <p:nvPr/>
        </p:nvPicPr>
        <p:blipFill>
          <a:blip r:embed="rId4"/>
          <a:stretch/>
        </p:blipFill>
        <p:spPr>
          <a:xfrm>
            <a:off x="5413320" y="3187800"/>
            <a:ext cx="3108240" cy="8776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3" descr=""/>
          <p:cNvPicPr/>
          <p:nvPr/>
        </p:nvPicPr>
        <p:blipFill>
          <a:blip r:embed="rId5"/>
          <a:stretch/>
        </p:blipFill>
        <p:spPr>
          <a:xfrm>
            <a:off x="6059520" y="4462560"/>
            <a:ext cx="2462040" cy="877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060560" y="6004080"/>
            <a:ext cx="8059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907920" y="5589720"/>
            <a:ext cx="80600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1176480" y="5108400"/>
            <a:ext cx="80532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9"/>
          <a:stretch/>
        </p:blipFill>
        <p:spPr>
          <a:xfrm>
            <a:off x="1163520" y="3852720"/>
            <a:ext cx="805968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0"/>
          <a:stretch/>
        </p:blipFill>
        <p:spPr>
          <a:xfrm>
            <a:off x="890640" y="3067200"/>
            <a:ext cx="8058240" cy="91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1"/>
          <a:stretch/>
        </p:blipFill>
        <p:spPr>
          <a:xfrm>
            <a:off x="901800" y="2548080"/>
            <a:ext cx="8053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1:42Z</dcterms:created>
  <dc:creator/>
  <dc:description/>
  <dc:language>en-US</dc:language>
  <cp:lastModifiedBy/>
  <dcterms:modified xsi:type="dcterms:W3CDTF">2011-12-08T11:41:47Z</dcterms:modified>
  <cp:revision>1</cp:revision>
  <dc:subject/>
  <dc:title/>
</cp:coreProperties>
</file>