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BF1-FB2E-419F-9386-0F81388A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0E6-7B37-4639-922E-17C33E6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5DC-60A0-443D-95E3-50747728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59B-482D-44E6-BD38-199C02F2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C85-AEBE-4ACD-A8D9-E8D4392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0C7-9573-4713-9E8A-15642C8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F2E-3953-4317-BEF4-36B9EE3B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19C-FE06-4B8D-B07C-F0BC96F1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4BA-2761-4AC4-B713-9A5F3915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534-8850-4A38-8E55-49A0370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44F-CCCD-4791-8E21-32283B7C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522-D315-4E54-ACEC-3D260E7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13B-2041-42B8-A9FB-19237CD778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3"/>
          <a:stretch/>
        </p:blipFill>
        <p:spPr>
          <a:xfrm>
            <a:off x="1395360" y="2992320"/>
            <a:ext cx="4518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98520" y="24256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328760" y="3859200"/>
            <a:ext cx="5114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5881680" y="1628640"/>
            <a:ext cx="2665440" cy="2406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305000" y="5346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1414440" y="35179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414440" y="304812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1401840" y="25844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8"/>
          <a:stretch/>
        </p:blipFill>
        <p:spPr>
          <a:xfrm>
            <a:off x="1292400" y="49500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9"/>
          <a:stretch/>
        </p:blipFill>
        <p:spPr>
          <a:xfrm>
            <a:off x="1298520" y="40114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0"/>
          <a:stretch/>
        </p:blipFill>
        <p:spPr>
          <a:xfrm>
            <a:off x="1292400" y="44928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1"/>
          <a:stretch/>
        </p:blipFill>
        <p:spPr>
          <a:xfrm>
            <a:off x="1292400" y="217656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3:26Z</dcterms:created>
  <dc:creator/>
  <dc:description/>
  <dc:language>en-US</dc:language>
  <cp:lastModifiedBy/>
  <dcterms:modified xsi:type="dcterms:W3CDTF">2011-12-08T11:53:32Z</dcterms:modified>
  <cp:revision>1</cp:revision>
  <dc:subject/>
  <dc:title/>
</cp:coreProperties>
</file>