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D74-57D6-4D22-871F-B393F4BF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25F-B7EC-449F-AF0E-945FD1FD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EA9-97DF-4B89-9BD5-73920DFF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6B1-D1C6-4850-A304-13DD873C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880-C868-4B6D-A559-34F33C6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919-026C-4F88-999C-97FF6D5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05E-78C3-4900-AC1B-24089A09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AE5-CF20-4467-8641-60995F3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2A2-8317-465E-B1B7-C89948C9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1E6-CF70-4DAA-A351-074782C6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C20-14F5-4F0A-8C6E-7E9BA30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0E3-B658-4A15-A4ED-2ACCA16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DD82-26AA-4CB0-8412-46308F4906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124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3"/>
          <a:stretch/>
        </p:blipFill>
        <p:spPr>
          <a:xfrm>
            <a:off x="1395360" y="2378160"/>
            <a:ext cx="253692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124080" cy="26575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060640" y="5041800"/>
            <a:ext cx="194472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2048040" y="4243320"/>
            <a:ext cx="338292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71600" y="3438360"/>
            <a:ext cx="35244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6" descr=""/>
          <p:cNvPicPr/>
          <p:nvPr/>
        </p:nvPicPr>
        <p:blipFill>
          <a:blip r:embed="rId3"/>
          <a:stretch/>
        </p:blipFill>
        <p:spPr>
          <a:xfrm>
            <a:off x="1395360" y="2475000"/>
            <a:ext cx="2895480" cy="66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5769000" y="1700280"/>
            <a:ext cx="27925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1292400" y="52243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-1481040" y="57308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292400" y="4511520"/>
            <a:ext cx="822960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-146160" y="399240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5" descr=""/>
          <p:cNvPicPr/>
          <p:nvPr/>
        </p:nvPicPr>
        <p:blipFill>
          <a:blip r:embed="rId3"/>
          <a:stretch/>
        </p:blipFill>
        <p:spPr>
          <a:xfrm>
            <a:off x="1395360" y="2316240"/>
            <a:ext cx="217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5826240" y="1628640"/>
            <a:ext cx="28782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328760" y="5151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316160" y="4290840"/>
            <a:ext cx="8229600" cy="787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1322280" y="3486240"/>
            <a:ext cx="8229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8:07Z</dcterms:created>
  <dc:creator/>
  <dc:description/>
  <dc:language>en-US</dc:language>
  <cp:lastModifiedBy/>
  <dcterms:modified xsi:type="dcterms:W3CDTF">2011-12-08T11:58:12Z</dcterms:modified>
  <cp:revision>1</cp:revision>
  <dc:subject/>
  <dc:title/>
</cp:coreProperties>
</file>