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008-DE85-49F0-AD51-6F5EC578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54-E8A9-407F-A003-059FA994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41E-0BB0-4A6B-AE44-A5599FF6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0A9-43D0-4E3E-8B72-68EAE4C7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963-8582-4FDF-8755-6A70CCAE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224-BD7D-4B7D-93B3-EAB3D42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867-C113-4423-895F-1CD4CAD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5FB-CD81-4FB6-B94D-5FD5997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67A-6EDE-43C9-83DD-7E4A7240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37C-683C-4FBF-87B1-218585D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0C-9814-4A36-AE5F-2496237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BD6-FD48-4AC9-9C36-39C0306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6D39-57AA-4662-B1E4-F6D8F0FB11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3"/>
          <p:cNvGrpSpPr/>
          <p:nvPr/>
        </p:nvGrpSpPr>
        <p:grpSpPr>
          <a:xfrm>
            <a:off x="6375240" y="1994040"/>
            <a:ext cx="2011680" cy="2122920"/>
            <a:chOff x="6375240" y="1994040"/>
            <a:chExt cx="2011680" cy="2122920"/>
          </a:xfrm>
        </p:grpSpPr>
        <p:cxnSp>
          <p:nvCxnSpPr>
            <p:cNvPr id="47" name="Straight Arrow Connector 12"/>
            <p:cNvCxnSpPr/>
            <p:nvPr/>
          </p:nvCxnSpPr>
          <p:spPr>
            <a:xfrm flipV="1">
              <a:off x="6699240" y="2062440"/>
              <a:ext cx="1080" cy="19562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" name="Straight Arrow Connector 15"/>
            <p:cNvCxnSpPr/>
            <p:nvPr/>
          </p:nvCxnSpPr>
          <p:spPr>
            <a:xfrm>
              <a:off x="6411960" y="3776760"/>
              <a:ext cx="1872360" cy="1080"/>
            </a:xfrm>
            <a:prstGeom prst="straightConnector1">
              <a:avLst/>
            </a:prstGeom>
            <a:ln w="2232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" name="Straight Connector 18"/>
            <p:cNvSpPr/>
            <p:nvPr/>
          </p:nvSpPr>
          <p:spPr>
            <a:xfrm flipV="1">
              <a:off x="6558120" y="2146320"/>
              <a:ext cx="1220760" cy="1820520"/>
            </a:xfrm>
            <a:prstGeom prst="line">
              <a:avLst/>
            </a:prstGeom>
            <a:ln w="12600">
              <a:solidFill>
                <a:srgbClr val="2c7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25"/>
            <p:cNvSpPr/>
            <p:nvPr/>
          </p:nvSpPr>
          <p:spPr>
            <a:xfrm>
              <a:off x="6413400" y="2898000"/>
              <a:ext cx="3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26"/>
            <p:cNvSpPr/>
            <p:nvPr/>
          </p:nvSpPr>
          <p:spPr>
            <a:xfrm>
              <a:off x="6999840" y="3748680"/>
              <a:ext cx="3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TextBox 27" descr=""/>
            <p:cNvPicPr/>
            <p:nvPr/>
          </p:nvPicPr>
          <p:blipFill>
            <a:blip r:embed="rId3"/>
            <a:stretch/>
          </p:blipFill>
          <p:spPr>
            <a:xfrm>
              <a:off x="6375240" y="19940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Box 28" descr=""/>
            <p:cNvPicPr/>
            <p:nvPr/>
          </p:nvPicPr>
          <p:blipFill>
            <a:blip r:embed="rId4"/>
            <a:stretch/>
          </p:blipFill>
          <p:spPr>
            <a:xfrm>
              <a:off x="6759000" y="34322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TextBox 29" descr=""/>
            <p:cNvPicPr/>
            <p:nvPr/>
          </p:nvPicPr>
          <p:blipFill>
            <a:blip r:embed="rId5"/>
            <a:stretch/>
          </p:blipFill>
          <p:spPr>
            <a:xfrm>
              <a:off x="8027280" y="3718800"/>
              <a:ext cx="35964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38"/>
          <p:cNvSpPr/>
          <p:nvPr/>
        </p:nvSpPr>
        <p:spPr>
          <a:xfrm>
            <a:off x="7155000" y="3081240"/>
            <a:ext cx="0" cy="69552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39"/>
          <p:cNvSpPr/>
          <p:nvPr/>
        </p:nvSpPr>
        <p:spPr>
          <a:xfrm flipH="1">
            <a:off x="6687720" y="3083040"/>
            <a:ext cx="451080" cy="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2048040" y="5241960"/>
            <a:ext cx="8229600" cy="6588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901800" y="48276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2054160" y="4114800"/>
            <a:ext cx="822960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189080" y="377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116000" y="2365200"/>
            <a:ext cx="8229600" cy="6638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615960" y="2962440"/>
            <a:ext cx="82296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3"/>
          <a:stretch/>
        </p:blipFill>
        <p:spPr>
          <a:xfrm>
            <a:off x="841320" y="2639880"/>
            <a:ext cx="8053560" cy="621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32240"/>
            <a:ext cx="6924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9:03Z</dcterms:created>
  <dc:creator/>
  <dc:description/>
  <dc:language>en-US</dc:language>
  <cp:lastModifiedBy/>
  <dcterms:modified xsi:type="dcterms:W3CDTF">2011-12-08T11:39:09Z</dcterms:modified>
  <cp:revision>1</cp:revision>
  <dc:subject/>
  <dc:title/>
</cp:coreProperties>
</file>