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3352-4174-4E61-B4CC-1C8599FD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A576-5331-466B-A514-19ACFC6A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3600-3839-402E-BD27-891AC50E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A123-020C-4F32-A79D-6F2AE153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962D-F05E-4D67-A29E-48BC547D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712B-7A59-42F1-BE59-32DDF0E5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BBFE-20A0-488D-A987-371E6122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DC92-1E21-4C2D-802D-38D93B20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20F5-5160-4F80-8E95-BD15EADF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6448-9FCF-460F-AC51-72AD9EB4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077F-F3CE-4E4E-8F6B-95DEE61A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6C16-8052-45F6-BAEA-D98487B5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2314-B13B-4893-910F-ADAA7993129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255600" y="993600"/>
            <a:ext cx="827892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341280" y="171288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3"/>
          <a:stretch/>
        </p:blipFill>
        <p:spPr>
          <a:xfrm>
            <a:off x="1401840" y="220680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1573200" y="266400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5"/>
          <a:stretch/>
        </p:blipFill>
        <p:spPr>
          <a:xfrm>
            <a:off x="1328760" y="3133800"/>
            <a:ext cx="822960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2" descr=""/>
          <p:cNvPicPr/>
          <p:nvPr/>
        </p:nvPicPr>
        <p:blipFill>
          <a:blip r:embed="rId1"/>
          <a:stretch/>
        </p:blipFill>
        <p:spPr>
          <a:xfrm>
            <a:off x="341280" y="1712880"/>
            <a:ext cx="8364600" cy="185256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3"/>
          <a:stretch/>
        </p:blipFill>
        <p:spPr>
          <a:xfrm>
            <a:off x="2090880" y="4548240"/>
            <a:ext cx="8229600" cy="4618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4"/>
          <a:stretch/>
        </p:blipFill>
        <p:spPr>
          <a:xfrm>
            <a:off x="1779480" y="411480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5"/>
          <a:stretch/>
        </p:blipFill>
        <p:spPr>
          <a:xfrm>
            <a:off x="1328760" y="3645000"/>
            <a:ext cx="822960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2" descr=""/>
          <p:cNvPicPr/>
          <p:nvPr/>
        </p:nvPicPr>
        <p:blipFill>
          <a:blip r:embed="rId1"/>
          <a:stretch/>
        </p:blipFill>
        <p:spPr>
          <a:xfrm>
            <a:off x="341280" y="1712880"/>
            <a:ext cx="8364600" cy="96372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6" descr=""/>
          <p:cNvPicPr/>
          <p:nvPr/>
        </p:nvPicPr>
        <p:blipFill>
          <a:blip r:embed="rId3"/>
          <a:stretch/>
        </p:blipFill>
        <p:spPr>
          <a:xfrm>
            <a:off x="1395360" y="2414520"/>
            <a:ext cx="3541680" cy="57780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4"/>
          <a:stretch/>
        </p:blipFill>
        <p:spPr>
          <a:xfrm>
            <a:off x="42840" y="3206880"/>
            <a:ext cx="76564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52:32Z</dcterms:created>
  <dc:creator/>
  <dc:description/>
  <dc:language>en-US</dc:language>
  <cp:lastModifiedBy/>
  <dcterms:modified xsi:type="dcterms:W3CDTF">2011-12-08T11:52:37Z</dcterms:modified>
  <cp:revision>1</cp:revision>
  <dc:subject/>
  <dc:title/>
</cp:coreProperties>
</file>